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3F0-8B53-4172-BF25-70655627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6AD-443A-4219-A66B-AAC427B2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010-2FD3-4AEA-B19A-75A9B65E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1F7-4E88-4730-A19B-174D0DAE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87FD-5A52-4240-95E3-FE3F2CD8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CEC9-520D-417C-A9E5-9226DDA4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7D28-6FD1-4C40-855B-83773089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5B86-4DEC-43BD-ACD0-F0B372DD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3032-6CE7-4881-AF54-84B79B38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24C0-490A-4A76-9CCD-2C8958B9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3B8C-8E9F-47F8-95AA-623CF42C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6DE-1F8E-48C1-8D17-9267F9FE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935E-E4FE-496E-87B3-AE1FF4B6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A674-B9EC-41EB-B54B-F3A6DEEB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B0E4-D4D8-43C6-94BA-5F0E3936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18A8-7685-4D9D-8EF3-069B04ED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E2DB-AE0B-4709-9034-427B02E2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C20-7015-4BC0-937C-4BB8193F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CCC-3A9B-4A16-AD2C-739883EF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A05-2BCB-4F15-AC12-A0F72685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D1E-C0F4-4C7C-B671-A2DDACE3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33B-F367-4294-B72B-D2624C35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A15-FA1E-4BCD-BFC7-CDEDCDA4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8C5-CA78-413B-B552-ACF04772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4772-10E3-438E-98DE-D9380AFEA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2EA2-A658-489C-B91F-D9AFDCB2C7B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tential Cabinet Members and Advis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o are The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omas Jeffers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Secretary of St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4" descr="225px-T_Jefferson_by_Charles_Willson_Peale_1791_2"/>
          <p:cNvPicPr/>
          <p:nvPr/>
        </p:nvPicPr>
        <p:blipFill>
          <a:blip r:embed="rId1"/>
          <a:stretch/>
        </p:blipFill>
        <p:spPr>
          <a:xfrm>
            <a:off x="3657600" y="2895480"/>
            <a:ext cx="2057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upporter of a strong national government and a strong executive branch (may even want a king rather than a president); revolutionary war officer of Washington’s personal staff and strong supporter of Washington; good organizer and thorough planner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nts to establish a national bank and be sure that the new nation has a strong economic ba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lexander Hamilt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Secretary of the Treasu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4" descr="225px-Alexander_Hamilton_portrait_by_John_Trumbull_1806"/>
          <p:cNvPicPr/>
          <p:nvPr/>
        </p:nvPicPr>
        <p:blipFill>
          <a:blip r:embed="rId1"/>
          <a:stretch/>
        </p:blipFill>
        <p:spPr>
          <a:xfrm>
            <a:off x="3276720" y="2666880"/>
            <a:ext cx="28573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upporter of strong central government; southerner from a powerful state; lawyer by occupation; took a leadership role in the approval of the U.S. Constitution; keen observer and careful record keep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ames Madis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225px-James_Madison"/>
          <p:cNvPicPr/>
          <p:nvPr/>
        </p:nvPicPr>
        <p:blipFill>
          <a:blip r:embed="rId1"/>
          <a:stretch/>
        </p:blipFill>
        <p:spPr>
          <a:xfrm>
            <a:off x="3733920" y="2971800"/>
            <a:ext cx="198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6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der statesman with ambassadorial experience; had a strong role in both the Declaration of Independence and the U.S. Constitution; extremely well liked; inventive and scientifically curious; writes extremely well and has many publica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njamin Frankl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Picture 4" descr="210px-Benjamin_Franklin_by_Jean-Baptiste_Greuze"/>
          <p:cNvPicPr/>
          <p:nvPr/>
        </p:nvPicPr>
        <p:blipFill>
          <a:blip r:embed="rId1"/>
          <a:stretch/>
        </p:blipFill>
        <p:spPr>
          <a:xfrm>
            <a:off x="3124080" y="2590920"/>
            <a:ext cx="2667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7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utspoken critic of the U.S. Constitution and defender of states’ rights; spirited public speaker whose words caused many to support the Revolution; experienced as a state governor and long-time member of the state legislature; has real vision for the futu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trick Hen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Picture 4" descr="225px-Patrick_henry"/>
          <p:cNvPicPr/>
          <p:nvPr/>
        </p:nvPicPr>
        <p:blipFill>
          <a:blip r:embed="rId1"/>
          <a:stretch/>
        </p:blipFill>
        <p:spPr>
          <a:xfrm>
            <a:off x="3505320" y="2666880"/>
            <a:ext cx="20574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ob Descrip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ecretary of State deals with foreign polic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ecretary of Treasury deals with the econom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ecretary of War deals with national defense and the militar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Attorney General deals with federal law enforcement and represents the United States in Cour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Postmaster General runs the post offic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8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wyer from a powerful northern state; took a key role in the effort to gain separation from England and helped in the writing of the Declaration of Independence; considered uncompromising and unyielding but a man of principle; advocate of a strong central govern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ohn Ad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Picture 4" descr="225px-Johnadamsvp_flipped"/>
          <p:cNvPicPr/>
          <p:nvPr/>
        </p:nvPicPr>
        <p:blipFill>
          <a:blip r:embed="rId1"/>
          <a:stretch/>
        </p:blipFill>
        <p:spPr>
          <a:xfrm>
            <a:off x="3276720" y="2743200"/>
            <a:ext cx="20574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9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oston Merchant; Harvard graduate; served in the Revolution, first as a captain and later as a colonel; strong supporter of the U.S. Constitution, first commissioner of the U.S. Treasury, 1785-1789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muel Osgoo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Postmaster Gener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4" descr="225px-SOsgood"/>
          <p:cNvPicPr/>
          <p:nvPr/>
        </p:nvPicPr>
        <p:blipFill>
          <a:blip r:embed="rId1"/>
          <a:stretch/>
        </p:blipFill>
        <p:spPr>
          <a:xfrm>
            <a:off x="3200400" y="2971800"/>
            <a:ext cx="2143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1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rginia Lawyer, aide de camp to Washington; governor of Virginia; member of Congress; attended Constitutional Convention but refused to sign; urged the ratification of the Constitution on the grounds that the union was necessar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dmund Randolp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Attorney Gener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9" name="Picture 4" descr="EdmundRandolph"/>
          <p:cNvPicPr/>
          <p:nvPr/>
        </p:nvPicPr>
        <p:blipFill>
          <a:blip r:embed="rId1"/>
          <a:stretch/>
        </p:blipFill>
        <p:spPr>
          <a:xfrm>
            <a:off x="3581280" y="2895480"/>
            <a:ext cx="1935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Original Cabin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were three original cabinet positions. These included: Secretary of State, Secretary of Treasury, and Secretary of War (now Defense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y Advis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positions of Attorney General and Postmaster General were key advisors to the President and both eventually became cabinet level position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Justice Department was created in 1870 and the Post Office Department in 1826. The Post Office Department was withdrawn as a cabinet level department in 1971 when the Post Office Department was reorganized as the United States Postal Servic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oston bookseller; forced to flee Boston in disguise in 1774; Revolutionary War general; served as an artillery officer with Washington’s army; developed a reputation for being able to move equipment and supplies quickly; known as sound, solid, and dependabl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enry Knox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Secretary of W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4" descr="225px-HenryKnox"/>
          <p:cNvPicPr/>
          <p:nvPr/>
        </p:nvPicPr>
        <p:blipFill>
          <a:blip r:embed="rId1"/>
          <a:stretch/>
        </p:blipFill>
        <p:spPr>
          <a:xfrm>
            <a:off x="3352680" y="2895480"/>
            <a:ext cx="20383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volutionary War general; served with distinction and bravery; considered a strong, brilliant leader in battle who men would die for; fought guerilla-type warfare from the swamps of his native state for a considerable period of time while British were in control of the are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rancis Mar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Picture 4" descr="150px-FrancisMarionSwampFox"/>
          <p:cNvPicPr/>
          <p:nvPr/>
        </p:nvPicPr>
        <p:blipFill>
          <a:blip r:embed="rId1"/>
          <a:stretch/>
        </p:blipFill>
        <p:spPr>
          <a:xfrm>
            <a:off x="3352680" y="28195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rong-minded, clear speaking champion of individual rights; opposed to a central government that is too strong; extensive experience in dealing with other nations; took a leadership role in Congress during the Revolu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4:01:38Z</dcterms:created>
  <dc:creator>default</dc:creator>
  <dc:description/>
  <dc:language>en-US</dc:language>
  <cp:lastModifiedBy>default</cp:lastModifiedBy>
  <dcterms:modified xsi:type="dcterms:W3CDTF">2009-11-17T13:51:17Z</dcterms:modified>
  <cp:revision>18</cp:revision>
  <dc:subject/>
  <dc:title>Potential Cabinet Members</dc:title>
</cp:coreProperties>
</file>